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164-DC63-445C-820C-507E9A3D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717-4AA6-426D-B615-838D011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32A-A0D9-4DF5-AF2C-540A8237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EE0-04CF-4B94-A398-AB51DF8E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C52-376E-4AEB-A2C6-47A2F930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E798-97E1-463D-A8AC-DEEBE7D9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B5F0-0D4B-4D28-BD32-7DF06A62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D33-6479-4C13-8514-88FD322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6A0-0497-4332-8680-668AEA0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49FD-2CF3-448A-9937-3A37A0D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42C-0232-449B-A8B3-AA48D27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469-A82E-4235-B777-5A772D7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2C1B-905F-4112-AA3A-F4B07BC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8E3-965A-4669-98CD-358E9A0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F1BA-989B-4689-A1F9-96DB14B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751-EEA6-4428-8E4B-BAFE4E2F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6CA-ED5F-46BA-99E5-382BD53C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E07-75F9-4FA6-A4C9-3F49480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979-EBE8-40AA-B900-E6904AC2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9C7-A21E-497F-A818-FBD4DC1D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404-82C7-48E1-8C8C-3D2629C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D4B-B2CF-4480-BB25-74AFD2B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823-0923-491F-8C92-4A361DB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F9C-0675-4197-A1CE-1B344D0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D673-80DF-4518-A6F4-789C45FC1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6270-782E-46DD-9CB1-B7661033A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0K_LZDXp0I" TargetMode="External"/><Relationship Id="rId3" Type="http://schemas.openxmlformats.org/officeDocument/2006/relationships/hyperlink" Target="http://www.youtube.com/watch?v=Bz3t4LcXwtE&amp;feature=relate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-6480"/>
            <a:ext cx="807696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rms R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9: Soviet Union successfully tests their first atomic 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2: U.S. tests first hydrogen 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3: Soviets test h-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s for 40 year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48769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tual Assured De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ide has enough nuclear weaponry to destroy the other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aliate with equal or greater for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side will strike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e but stable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tual Assured De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 four main assump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-strike cap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 det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 ra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bility to def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0384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clear F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uck and 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Fallout Shelt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753080" y="1523880"/>
            <a:ext cx="382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 = Thermal radiation (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283356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= B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5838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% as nucle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% as initial rad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%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sidual nuclear rad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llout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4960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3:04:41Z</dcterms:created>
  <dc:creator>Owner</dc:creator>
  <dc:description/>
  <dc:language>en-US</dc:language>
  <cp:lastModifiedBy>Owner</cp:lastModifiedBy>
  <dcterms:modified xsi:type="dcterms:W3CDTF">2010-04-22T05:19:32Z</dcterms:modified>
  <cp:revision>3</cp:revision>
  <dc:subject/>
  <dc:title>Nuclear War</dc:title>
</cp:coreProperties>
</file>